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A88-3B73-4C76-9110-80D7A16F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400-14DE-4122-ABC2-9F21E51D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E419-5D19-45D2-91D6-8B8CAAFB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6A7B-94C0-464E-AFBA-43631F5E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4D58-08CF-453E-8EA4-42E005D3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BA0-720E-46C0-818B-C1101509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90A-CEF0-443E-9D25-80230AF4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1428-7647-4A6F-8922-2F5F59BB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658-5A07-4650-9751-3CC4DF63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43FE-CFE2-48AC-BA03-D07DC662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52C-4724-49F8-8DBC-730E9667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EF66-693D-49D3-900F-B4373A63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2654-E31C-4600-8C47-0CD63179E39B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</a:rPr>
              <a:t>Fotografiere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Franklin Gothic Book"/>
              </a:rPr>
              <a:t> Worauf es ankomm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findlichkeit (ISO/AS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Hohe Empfindlich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ürzere Belichtungs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ber mehr Bildrauschen (Körn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Unterschiede bei Kam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ompakte Digitalkam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leiner 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Rauscharme Bilder nur bei geringen ISO W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gitale Spiegelreflexkameras (SL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Größerer 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Rauscharme Bilder auch bei höheren ISO-W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naloge Kameras (35mm Fil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al für Nachtaufnahmen mit sehr hohen ISO-W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h mit Lamellen im Objekti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endenzahl gibt Lichtverhältnis zu Objektiv ohne Blendenvorrichtung 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ößte Bl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h am größ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einste Blendenz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inge Tiefenschär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74280" indent="-134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to wirkt 3-dimensional, bekommt Tie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hr Licht, daher kürzere Belichtungszeit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74280" indent="-134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t für Porträts, Hintergrund verschwim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e Bl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dergrund und Hintergrund scha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74280" indent="-134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schaftsaufna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4280" indent="-134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ensterne: Lichtquellen in der Nacht sternförmig (Stativ verwende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ichtungsz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Abhängig v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l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mpfindlichkeit (I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Zu lange Belichtungsz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ild kann verwack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ild wird überbelich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Zeitautomatik ( Einstellung „A“ für „Aperture Priority“) stellt Zeit bei manuell gewählter Blende automatisch 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nnwe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Lange Brennwe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leiner Bildausschnitt (Zo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ild kann schneller verwack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ichtstärke nimmt ab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..Belichtungszeit sollte trotzdem kürzer sein (Faustregel: höchstens Kehrwert der Brennwei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nalog –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nsor meist kleiner als Film: kleinerer Bildausschnitt bei gleicher Brennweite. Brennweite muss umgerechnet werden (kleinere Brennweite für gleiches Ergebn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Natürlicher Blickwink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50mm bei Analogk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k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illige Objektive Schwachpunkt günstiger SLR-Komplettangebo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lende, Verzerrungen und Verdunklung (Vignette) am Bild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Lichtstarke Objektive (besonders große Blende) teu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Großer Zoomber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Objektive meist minderwerti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flexib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Fixbrennwe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Qualitativ besser bei gleichem Pr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Umständlicher - mehrere Objektive nöt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 Megapixel-Wahnsi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Viele Megapi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nur mehr Details, wenn das Bild gestochen scharf ist und nicht rausc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ehr Rezeptoren auf dem Sensor: Höheres Bildraus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Rezeptoren kle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esser in ein gutes Objektiv investieren und bei der Kamera das Vorgängermodell mit etwas weniger Megapixel günstig erwer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gleich Analog - 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Gebrauchte analoge Spiegelreflexkameras fast geschenk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Grosse Auswahl an Gebrauchtobjektiven. Gut und erschwinglich: lichtstarkes Objektiv mit manuellem Fokus und Fixbrennwe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niger Bildrauschen bei vergleichbarer Empfindlich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ktisch keine Auslöseverzög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Kosten und Zeitaufwand für Filme und Entwick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 einen Film passen nur wenige Fo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lösung nur durch Optik begren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ändig neue Modelle -&gt; Starker Preisver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slöseverzögerung (auch das Speichern braucht Ze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Gebrauchte Objektive von Analogkameras nur bedingt geeig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Bildrauschen bei hoher Empfindlich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Bilder sofort verfügbar. Experimentieren leichter mög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Keine zwingenden  laufenden Kosten. Ausarbeitung einzelner Bilder nur bei Bedarf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Bildbearbeitungsfunktionen z.T. bereits in der Kam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8:55:38Z</dcterms:created>
  <dc:creator>Oliver Mochmann</dc:creator>
  <dc:description/>
  <dc:language>en-US</dc:language>
  <cp:lastModifiedBy>Klingenberg</cp:lastModifiedBy>
  <dcterms:modified xsi:type="dcterms:W3CDTF">2011-04-20T19:27:54Z</dcterms:modified>
  <cp:revision>7</cp:revision>
  <dc:subject/>
  <dc:title>Fotografieren  Worauf es ankommt</dc:title>
</cp:coreProperties>
</file>